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754-901A-4DDC-92C2-606B83F1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C4C-75E8-412A-9DF5-103C292E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BB9-1FC5-47EB-A0C5-E3B8A18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805-AB51-4A88-B887-82F1323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B93-9770-4525-917D-C97F338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C82-7653-4C8A-BB85-39BA9AD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1CA-D07D-4F67-8518-BDD5B03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CB7-F08B-4AF0-99B9-A96203A8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F07-73B6-4644-AE2C-F0F967B5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63D-45DD-4F9D-AC62-8BA567DB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6BC-6D2F-42D9-99B3-0429478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680-2301-482E-B57C-104087A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3962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7200" y="6248160"/>
            <a:ext cx="4572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38A-6D7D-4741-8258-9E474FF36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5943600"/>
          <a:ext cx="114300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5943600"/>
                    <a:ext cx="11430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éunion avec les éditeurs de logiciels de facturation des établissements ex-D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HO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1 juin 200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5867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elle OUSSAR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OS, bureau des systèmes d’information hospitali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alendrier de bascule des couloi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-606600" y="1600200"/>
          <a:ext cx="868392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6600" y="1600200"/>
                    <a:ext cx="86839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058-9513-48AD-817C-3EAD60504C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appels et règles de bonne pr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 des é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GMSIH/DHOS/CNAMTS/MSA/DGF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les établissements : vigilance à toutes les étapes du circ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fication d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plissage des fiches contac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ation de ces retou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aux de bord de suivi des flux envoyés avec les partena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 des organis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équences pour les édi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égration des retours dans la chaîne de factu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uration d’un contrôle bloquant sur les 15 caractè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DGF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19640" y="5445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445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35C-9235-46CA-94EA-F00D18C71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sur la cer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BAE-EC16-4F49-BAEA-225591CA3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age des médicaments rétrocéd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CNAM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aboration d’un « mode opératoire » avec l’assurance maladie pour la mise en œuvre par les établissem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égration dans le Guide de facturation disponible sur le site de la DHOS, dans la suite du guide d’ad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s assurance maladie : date d’application à fix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88000" y="1773360"/>
          <a:ext cx="914400" cy="77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3C3-A35C-421F-B308-DEEFBF575D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e à jour des certificats de chiffr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ation GIP CPS/DC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114800" y="3071880"/>
          <a:ext cx="914400" cy="714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718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5FE-E1D2-43F0-BC27-12BD7A3E71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’avancement du projet consultation des droits (CD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de lecture des cartes Vitale (V4 et V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sentation CNAMTS/DC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32B-42F0-4419-829E-845967902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entation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P CPS/MI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SI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221000"/>
          <a:ext cx="914400" cy="714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2100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145-10DE-41C8-B71F-3C0E413FD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tion individuelle direc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èse d’une expérimentation en 2009 en attente d’arbit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tiers préal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é des données relatives aux droits des patients : API de lecture des cartes Sésame Vitale, bornes Vitale de mise à jour, consultation des droits en lig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uto-diagno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ableaux de bord CNAMTS - M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pla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’outils d’amélioration des pratiq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ier MEAH recouvrement : généralisation 40 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nalyse des rejets, juin 200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d’admission, DHOS, février 2008, puis guide de factur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et 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personnels concerné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 informations dans 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rise en charg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7A65-E46F-4899-9A40-4D12D2A4F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diver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dre du jo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de situation sur la mise en place de l’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tat des lieux, mai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és de simpl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age UCD médica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sur la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s sur le schéma de dématérial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 certificats de chiff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des dro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Vit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uration directe et chantiers préal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A53-7503-497F-90B1-6DC577B4D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1)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rastructure d’échanges sécuris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 de l’enquête DHOS mai 2008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on de la mise en place d’une infrastructure d’échanges sécurisée et de l’envoi des flux 1 e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ont une infrastructure d’échanges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 % des CH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e 55 % en janvier 2008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16 % sont en B2 2005 sécuris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 établissements sont 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un tiers d’entre eux attendent les conditions de validation de la phase 4 pour s ’y eng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t en phase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’ont pas encore débuté les t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A47-9A47-436A-9D18-B29EBE096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transmission : état des lieux (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lux 1 e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ont constitué leurs stocks 1 euro, do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 de 60 % au moins une an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e 80 % pour les 3 années (2005-2006-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établissements ayant transmis leurs stocks ont reçu une confirmation de la caisse pivot, mais n’ont pas de retour sur leur trai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jets sont quantifiés : taux de rejet moyen 38 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à pondérer avec le taux de réponse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sont ni identifiés ni analys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t des lieux de la CNAM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59C-F1BF-43C3-B2F9-452E72B2F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600" y="990720"/>
            <a:ext cx="8643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isement des critères « capacité de remontée des stocks 1€ » et « norme de télétransmission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2 établissements ont répondu à l’une ou l’autre des questions (95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52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at d’avancement : cartographie des établiss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738360" y="5146560"/>
            <a:ext cx="1338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 = ri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-663840" y="436608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t des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270828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élé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43120" y="398304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oni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62440" y="2935440"/>
            <a:ext cx="13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 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81600" y="2927520"/>
            <a:ext cx="14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écuri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17800" y="3276720"/>
            <a:ext cx="1440" cy="273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7800" y="3276720"/>
            <a:ext cx="20520" cy="27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784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5784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7880" y="3297240"/>
            <a:ext cx="1440" cy="271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7880" y="3297240"/>
            <a:ext cx="20520" cy="271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8320" y="32767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38320" y="4633920"/>
            <a:ext cx="5680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38320" y="4633920"/>
            <a:ext cx="568008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38320" y="5991120"/>
            <a:ext cx="5680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38320" y="5991120"/>
            <a:ext cx="5680080" cy="2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276640"/>
            <a:ext cx="1661760" cy="515880"/>
          </a:xfrm>
          <a:prstGeom prst="wedgeRectCallout">
            <a:avLst>
              <a:gd name="adj1" fmla="val -50763"/>
              <a:gd name="adj2" fmla="val 216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avanc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240" y="6151680"/>
            <a:ext cx="1662120" cy="515880"/>
          </a:xfrm>
          <a:prstGeom prst="wedgeRectCallout">
            <a:avLst>
              <a:gd name="adj1" fmla="val 41689"/>
              <a:gd name="adj2" fmla="val -12446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les plus en ret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2600" y="3797280"/>
            <a:ext cx="23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 ES, soit 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07040" y="37972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2 ES, soit 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2360" y="5160960"/>
            <a:ext cx="23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 ES, soit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28840" y="4902120"/>
            <a:ext cx="2352600" cy="8323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1 ES, soit 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63880" y="6129360"/>
            <a:ext cx="469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C87-A932-4C42-9592-F9104E022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V="1">
            <a:off x="1324080" y="921960"/>
            <a:ext cx="6946920" cy="45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86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de progression de la mise en place de la télé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981000"/>
            <a:ext cx="181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État d’avancement des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35040" y="5632560"/>
            <a:ext cx="139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cune ou antérieure à 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296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563256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5632560"/>
            <a:ext cx="10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 non sécuris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24080" y="546876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336320" y="1669680"/>
            <a:ext cx="12600" cy="37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94000" y="4343400"/>
            <a:ext cx="1442880" cy="906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0400" y="2708280"/>
            <a:ext cx="144324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6400" y="4330800"/>
            <a:ext cx="1442880" cy="906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3480" y="3170160"/>
            <a:ext cx="1442880" cy="906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7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3640" y="2708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9120" y="1413000"/>
            <a:ext cx="144324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6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429264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77080" y="2852640"/>
            <a:ext cx="1442880" cy="906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1557360"/>
            <a:ext cx="1442880" cy="90648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1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46960" y="907920"/>
            <a:ext cx="1662120" cy="516240"/>
          </a:xfrm>
          <a:prstGeom prst="wedgeRectCallout">
            <a:avLst>
              <a:gd name="adj1" fmla="val -13421"/>
              <a:gd name="adj2" fmla="val -47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itionnement 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1484280"/>
            <a:ext cx="1443240" cy="906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 des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établiss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t 2 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3679920"/>
            <a:ext cx="2035440" cy="181584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386200">
            <a:off x="2161800" y="1831680"/>
            <a:ext cx="3273480" cy="4111560"/>
          </a:xfrm>
          <a:custGeom>
            <a:avLst/>
            <a:gdLst/>
            <a:ahLst/>
            <a:rect l="l" t="t" r="r" b="b"/>
            <a:pathLst>
              <a:path w="1112" h="981">
                <a:moveTo>
                  <a:pt x="0" y="0"/>
                </a:moveTo>
                <a:cubicBezTo>
                  <a:pt x="127" y="42"/>
                  <a:pt x="414" y="48"/>
                  <a:pt x="763" y="251"/>
                </a:cubicBezTo>
                <a:cubicBezTo>
                  <a:pt x="1112" y="454"/>
                  <a:pt x="853" y="829"/>
                  <a:pt x="876" y="981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46040" y="3262320"/>
            <a:ext cx="230400" cy="2491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56040" y="4158720"/>
            <a:ext cx="271440" cy="2509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65400" y="5214960"/>
            <a:ext cx="300240" cy="209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2760" y="2178000"/>
            <a:ext cx="314280" cy="222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89560" y="2707920"/>
            <a:ext cx="298440" cy="2300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38720" y="4119480"/>
            <a:ext cx="341280" cy="279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8240" y="17733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8240" y="295416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8240" y="4398840"/>
            <a:ext cx="138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s non débu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05360"/>
            <a:ext cx="1584360" cy="501840"/>
          </a:xfrm>
          <a:prstGeom prst="wedgeRectCallout">
            <a:avLst>
              <a:gd name="adj1" fmla="val 40180"/>
              <a:gd name="adj2" fmla="val -13322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S en position de vigi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6021360"/>
            <a:ext cx="150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iveau de sécurisation de la télé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577-31F3-4290-8042-4A3B478B2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72200" y="1685520"/>
            <a:ext cx="272736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 éditeurs équipent 70 % des établissements 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F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MIPI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 KESS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P CP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HEALTH SERVI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oposent une solution certifiée et sécurisé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259560" algn="just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utres éditeurs en B2 2005 sécurisée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NER équipe 10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E SAS : 6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435600" indent="1818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Impact"/>
              <a:buChar char="&gt;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S : 5 établisse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16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élétransmission : état des lieux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oom sur les édi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523880"/>
          <a:ext cx="579132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791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72D-02BD-45F9-A501-0CD32F9D2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 entre les partenaires : DHOS/CNAMTS/MSA/DGF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 de la phase 3 : nombre limité de tests effectués sur les factures envoyées par les établissements à leur caisse pivot (envoi d’un fichier d’une journée ordinaire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établissement reste toutefois libre d’accroître le nombre de fichiers à tes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gement applicable depuis juin 2007 aux établissements déjà télé transmetteurs, étendu aux établissements non télé transmetteurs, à une triple condition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tests doivent porter sur 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imètre d’activité de l’établisse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échelonnement possible des tests sur plusieurs journées de traitement)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 de rejet doivent être analys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ec la caisse pivot, pour procéder aux ajustements induit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ensemble des partenaires concernés doit être inform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 ces tests et de la gestion des rejet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127-55FD-419F-8D68-1B809DBCB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énéralisation de la télétransmiss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alités de simplification phas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d’échang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é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c chaq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sse pivo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un des établissements dont elle est piv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el pour tous les établissemen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mplir les fiches cont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dresse mail pour le SN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érifier la bonne récupération des retours NOEM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 ’assurer de l ’exploitation de ces reto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phase 4 élaboré et signé par le comptable public après vérification de la correcte transmission des fichiers NOEMIE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paiement (réf. 578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flux de rejet (réf. 908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ion nationale et locale d’une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à tous les partenai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er aux autres établissements et comptables dépendant de cette caisse pivot que les échanges en réel peuvent déb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HOS/E3/EO, réunion éditeurs, 11/06/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9CA-2FC8-4932-8741-797D24E8C2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08:39:58Z</dcterms:created>
  <dc:creator>philippe</dc:creator>
  <dc:description/>
  <dc:language>en-US</dc:language>
  <cp:lastModifiedBy>OUSSAR Estelle</cp:lastModifiedBy>
  <cp:lastPrinted>2007-11-06T12:46:12Z</cp:lastPrinted>
  <dcterms:modified xsi:type="dcterms:W3CDTF">2008-06-17T11:16:47Z</dcterms:modified>
  <cp:revision>268</cp:revision>
  <dc:subject/>
  <dc:title>Séminaire Oracle</dc:title>
</cp:coreProperties>
</file>